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6E2B-BF8C-482F-8BCF-80F6837D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A8C-300F-4F2B-B016-7437152F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EDE8-118A-4464-B337-CBD3B39E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7E2-BDAD-42A5-A1FF-567F2A4F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BFF7-8121-40DE-ACB3-2788AEE7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EF7B-8A08-4C9E-BBC1-98A3407C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20F-74BF-40F3-AA65-0A939C58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3D9-6CC1-486E-856F-5C79FB81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57E8-67A1-4B71-979D-7CC3AE42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359-F588-4962-B624-2B1F1BB3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7ABA-CDBC-4DF7-83C9-CF38425E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8244-D570-45C2-969F-2A5D67F7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AE0D-937B-44FC-A1E3-9FA177122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4200"/>
            </a:b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Watch someone use a cell phone or send an e-mail.  Science makes keeping in touch easy.  How many ways can we communicate?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orning Warm- Up</a:t>
            </a:r>
            <a:br>
              <a:rPr sz="14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u know there are many ways to keep in touch.  How do you keep in touch with your family?  How can we show people that we car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04920"/>
            <a:ext cx="8686800" cy="731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16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sabel and the giant make a circus.  The giant juggles, and Isabel tumbles.  What else do circus people do?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8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day we will read about signs.  Have you ever seen a sign that tells you a phone is around?  Some signs tell us to yield to people riding a bike.  What signs have you see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686800" cy="739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2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is week we read about different ways to communicate.  Talking is just one way.  What are some other ways to communicat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2:11:12Z</dcterms:created>
  <dc:creator> </dc:creator>
  <dc:description/>
  <dc:language>en-US</dc:language>
  <cp:lastModifiedBy>teacher</cp:lastModifiedBy>
  <dcterms:modified xsi:type="dcterms:W3CDTF">2010-11-06T19:36:13Z</dcterms:modified>
  <cp:revision>45</cp:revision>
  <dc:subject/>
  <dc:title> Morning Warm- Up! The cat needs some water.  The dog wants a bone.  That bird lives in a birdhouse where she feels quite at home.  How do people take care of pets?</dc:title>
</cp:coreProperties>
</file>